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07250" cy="7207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B655-6B53-4CD0-AF26-F223626E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416520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39CD-F0D1-49D5-8DA1-B3B04B27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8352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158A-A8C2-49D8-9FD9-CB718A25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5312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4588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5312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4588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F3D5-306E-48B2-8A29-E0C3E6B1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AB4-58B1-49A9-8936-F2441DE9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1D43-1171-4DCD-BDED-9AFC213E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8A18-C5AB-49AD-9137-0F8E9575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558C-24C6-49DE-8F7B-20B6FD38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288720"/>
            <a:ext cx="648504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D3BD-80DB-4C94-AFBA-4CEEEFBC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6AA1-803B-4160-A257-652D90C2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8352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BC99-B9BE-4BBE-AE5D-40363CAA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4D04-CE6C-4638-8B21-65332DCE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0360" y="6678360"/>
            <a:ext cx="16812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61680" y="6678360"/>
            <a:ext cx="228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64200" y="6678360"/>
            <a:ext cx="16812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55E24-6317-4E09-AE04-83BE63AAC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90520" y="290520"/>
            <a:ext cx="6642000" cy="6642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 rot="10800000">
            <a:off x="1239480" y="1299960"/>
            <a:ext cx="795240" cy="218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651200" y="4224240"/>
            <a:ext cx="795600" cy="218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239840" y="3489480"/>
            <a:ext cx="4206960" cy="734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3T13:44:51Z</dcterms:created>
  <dc:creator>t</dc:creator>
  <dc:description/>
  <dc:language>en-US</dc:language>
  <cp:lastModifiedBy>t</cp:lastModifiedBy>
  <dcterms:modified xsi:type="dcterms:W3CDTF">2018-05-23T13:59:07Z</dcterms:modified>
  <cp:revision>5</cp:revision>
  <dc:subject/>
  <dc:title>PowerPoint Presentation</dc:title>
</cp:coreProperties>
</file>